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4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87E-CDED-4079-8164-004328EB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609-5F4E-4A1F-B7C7-6268B571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C34-0DDF-44FC-A539-84227867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578-EBF9-4FE7-8E53-AA010110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E734-B1AB-4E98-BC95-65767F38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8700-A685-440A-BB3F-797304E1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A1AA-8040-4080-B7BF-BFB62532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9AAD-69C0-4577-AC8C-C0F6FC35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EB1F-BF20-4B9B-9225-2005112D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E742-4D5A-44A2-87B2-405E6E90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2A66-6535-4FD7-A8AD-5C1E22E7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349F-1EF9-4A16-9578-DCDC29E2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CA26-6EEE-4EBB-9539-460BC73C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4842-CDDF-4562-B7F5-EB72496F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06F2-3478-4533-A376-1DFB8D65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A813-9EA0-465F-A4F5-4079CDF8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AD3D-E324-4497-B11C-9D7B21BC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6607F-70C5-43AD-9B41-64995A4B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0A14A-CCED-4F32-B30A-79B736B6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16ACA-7956-4824-B6F4-55BE3737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3D490-7E7E-4084-9E92-C99474C4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396F9-D877-4A1B-94ED-06634906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07B-5928-4050-90D7-00765530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A5D7E-38B7-4098-97CD-A6D686F9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FD295-F01A-43DC-A962-765396E3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55E81-A6AA-48E2-B484-AB2B3266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928D6-A134-416F-A998-1C6E0E6E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72D20-AD75-4803-8CB5-5B263100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FCAA7-84A8-46C3-A076-809A0306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9EBA7-6067-4776-A2F2-FA3C1DED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0F6E7-459B-4D1E-88EA-BAA4A4FA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9E997-C335-47FD-919D-F0EF2163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AA8F1-8815-462C-8037-87582A80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88C1-4571-4168-ADE6-D9823E09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F3652-3B78-4F96-9E24-0F14FFAE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AC7C9-F446-4A34-B86B-63C72503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9A103-2C47-4EE7-A4CA-23FBA2F9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F11CE-2C26-4F5E-933F-7DE41D67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E0207-4689-4ED1-BFA6-BEDAB7D8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535B4-67E4-4640-B3A3-05ADAB4A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0EE6D-3F91-4BE5-BB44-1050DAAB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534DC-3C64-4267-BCC1-3B22FDF2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75276-ED6E-4D28-A332-EB7F6AC1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48C-CDE2-423F-8C3C-CF79EDD8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4B8-F18B-48F2-8CC1-DB00490B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3D60-99F3-40DA-B2D2-24D54E85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5EF-9622-4E40-98AE-95B86621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73B4-E3E8-4C45-98FA-984230E0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4BBC-6CD0-44A0-B251-DCBDD79DD1D9}" type="slidenum"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2543-ADEA-44A1-A93A-0DB2DD3F52C7}" type="slidenum"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B826-9A4E-42B1-9F6F-4EF0BB8B1B0B}" type="slidenum"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6804-DD8C-4132-9BA2-84F0A98C0EB9}" type="slidenum"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628560"/>
            <a:ext cx="8766360" cy="3059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Calligraphy"/>
            </a:endParaRPr>
          </a:p>
        </p:txBody>
      </p:sp>
      <p:pic>
        <p:nvPicPr>
          <p:cNvPr id="197" name="Picture 4" descr="Sunset.jpg"/>
          <p:cNvPicPr/>
          <p:nvPr/>
        </p:nvPicPr>
        <p:blipFill>
          <a:blip r:embed="rId2"/>
          <a:stretch/>
        </p:blipFill>
        <p:spPr>
          <a:xfrm>
            <a:off x="1295280" y="4114800"/>
            <a:ext cx="6782040" cy="2476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6666"/>
                </a:solidFill>
                <a:latin typeface="Brush Script MT"/>
              </a:rPr>
              <a:t>THE END</a:t>
            </a:r>
            <a:endParaRPr b="0" lang="en-US" sz="8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Placeholder 6" descr="Water lilies.jpg"/>
          <p:cNvPicPr/>
          <p:nvPr/>
        </p:nvPicPr>
        <p:blipFill>
          <a:blip r:embed="rId1"/>
          <a:srcRect l="5962" t="0" r="5962" b="0"/>
          <a:stretch/>
        </p:blipFill>
        <p:spPr>
          <a:xfrm rot="420000">
            <a:off x="3414600" y="1055160"/>
            <a:ext cx="4945320" cy="400860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907920" y="1176480"/>
            <a:ext cx="8485200" cy="31762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4419720"/>
            <a:ext cx="52578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00"/>
              </a:solidFill>
              <a:latin typeface="Constantia"/>
            </a:endParaRPr>
          </a:p>
        </p:txBody>
      </p:sp>
      <p:pic>
        <p:nvPicPr>
          <p:cNvPr id="200" name="Picture 5" descr="C:\Program Files\Microsoft Office\MEDIA\CAGCAT10\j0301050.wmf"/>
          <p:cNvPicPr/>
          <p:nvPr/>
        </p:nvPicPr>
        <p:blipFill>
          <a:blip r:embed="rId2"/>
          <a:stretch/>
        </p:blipFill>
        <p:spPr>
          <a:xfrm>
            <a:off x="228600" y="838080"/>
            <a:ext cx="419112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Edwardian Script ITC"/>
              </a:rPr>
              <a:t>Saudi Arabia facts……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1985 prince Sultan Ibn Salman became the first Arab and first Muslim to travel into spac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audi women are forbidden to drive cars and ride bik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audi’s believe that the rules for women are to protect a woman's modesty and hono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l Businesses and offices are required to close during the 5 prayer times though out the day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st Muslims practice Isla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ecause of the lack of water in Saudi Arabia they rely on desalination for wa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audi people talk before and after meals never dur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y don’t have movies the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il is their most exported resourc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64400" cy="19209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Picture 4" descr="C:\Program Files\Microsoft Office\MEDIA\CAGCAT10\j0281904.wmf"/>
          <p:cNvPicPr/>
          <p:nvPr/>
        </p:nvPicPr>
        <p:blipFill>
          <a:blip r:embed="rId2"/>
          <a:stretch/>
        </p:blipFill>
        <p:spPr>
          <a:xfrm>
            <a:off x="1066680" y="2362320"/>
            <a:ext cx="3114720" cy="294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Lucida Handwriting"/>
              </a:rPr>
              <a:t>Iran facts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ficial language is Persian~Fars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ia Islam is Iran’s state relig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% of Iran’s population is nomadic or semi nomad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 and women do not display affection in publ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houses in the desert city of Yazd have underground houses to escape the he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ys and girls go to separate sch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marriages are arranged by family, some parts of Iran have changed though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64400" cy="19209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Picture 5" descr="C:\Program Files\Microsoft Office\MEDIA\CAGCAT10\j0234687.gif"/>
          <p:cNvPicPr/>
          <p:nvPr/>
        </p:nvPicPr>
        <p:blipFill>
          <a:blip r:embed="rId2"/>
          <a:stretch/>
        </p:blipFill>
        <p:spPr>
          <a:xfrm>
            <a:off x="685800" y="1905120"/>
            <a:ext cx="4138560" cy="3581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66"/>
                </a:solidFill>
                <a:latin typeface="Lucida Calligraphy"/>
              </a:rPr>
              <a:t>Israel  </a:t>
            </a:r>
            <a:r>
              <a:rPr b="0" lang="en-US" sz="5000" spc="-1" strike="noStrike">
                <a:solidFill>
                  <a:srgbClr val="666666"/>
                </a:solidFill>
                <a:latin typeface="Lucida Calligraphy"/>
              </a:rPr>
              <a:t>facts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Israelis are on the Kibbutz, a rural community where everybody shares everything with almost every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 and women are required to serve in the military for a certain amount of ti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read more books than any other coun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s the second largest fleet of fighter air craf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ly country in the M.E. that allows Muslims, Christians, and Jews all in one pla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e-third is Israelis volunteer  for something in there commun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no civil marriag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rael does not have a written constit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64400" cy="1920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Picture 5" descr="C:\Program Files\Microsoft Office\MEDIA\CAGCAT10\j0302953.jpg"/>
          <p:cNvPicPr/>
          <p:nvPr/>
        </p:nvPicPr>
        <p:blipFill>
          <a:blip r:embed="rId2"/>
          <a:stretch/>
        </p:blipFill>
        <p:spPr>
          <a:xfrm>
            <a:off x="1295280" y="274320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Lucida Calligraphy"/>
              </a:rPr>
              <a:t>Turkey facts</a:t>
            </a:r>
            <a:endParaRPr b="0" lang="en-US" sz="6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ea is their national drin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very popular sport there is camel wrestl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d th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ote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most common folk instrument is the sa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ccer was introduced to them by the British in the 1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centu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gia Sophia is a gigantic  church built in Istanbul in A.D. 557 (very famou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7:54:16Z</dcterms:created>
  <dc:creator>200198183</dc:creator>
  <dc:description/>
  <dc:language>en-US</dc:language>
  <cp:lastModifiedBy>200198183</cp:lastModifiedBy>
  <dcterms:modified xsi:type="dcterms:W3CDTF">2010-09-24T17:54:17Z</dcterms:modified>
  <cp:revision>10</cp:revision>
  <dc:subject/>
  <dc:title>Countries in the Middle East.</dc:title>
</cp:coreProperties>
</file>